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9839-67F7-42F1-B9BF-1D483C59B5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B954-C8CD-48EC-AD02-442EC99392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4AB-4C40-4352-BB11-63DFD23B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507-7446-4F4F-B25E-38F41D45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5CE-1123-4741-9066-884CD8A3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E74-77A4-4404-80D7-CAF7060A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1EB-D898-44C2-94DA-835B98D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90E-2108-4A2C-8AEA-1DA57BD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208-5151-4530-B6FE-120A389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6E3-F9B1-40F9-BE84-30BBA84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60C-3134-4A73-968F-1457B17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915-C330-48C6-9E3E-2181FC4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4E1-7C75-4DA5-B95F-F665999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E77-F0FE-4564-BABC-E0D2974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B7EF-6507-4987-B903-218F0DF1FF8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250920" y="907920"/>
            <a:ext cx="8642160" cy="5616720"/>
            <a:chOff x="250920" y="907920"/>
            <a:chExt cx="8642160" cy="561672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0"/>
            <p:cNvSpPr/>
            <p:nvPr/>
          </p:nvSpPr>
          <p:spPr>
            <a:xfrm>
              <a:off x="1908000" y="2997360"/>
              <a:ext cx="36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1"/>
            <p:cNvSpPr/>
            <p:nvPr/>
          </p:nvSpPr>
          <p:spPr>
            <a:xfrm>
              <a:off x="1835280" y="2054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2"/>
            <p:cNvSpPr/>
            <p:nvPr/>
          </p:nvSpPr>
          <p:spPr>
            <a:xfrm>
              <a:off x="3274920" y="4149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3"/>
            <p:cNvSpPr/>
            <p:nvPr/>
          </p:nvSpPr>
          <p:spPr>
            <a:xfrm>
              <a:off x="4716360" y="4365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4"/>
            <p:cNvSpPr/>
            <p:nvPr/>
          </p:nvSpPr>
          <p:spPr>
            <a:xfrm>
              <a:off x="6156360" y="4214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5"/>
            <p:cNvSpPr/>
            <p:nvPr/>
          </p:nvSpPr>
          <p:spPr>
            <a:xfrm>
              <a:off x="7596360" y="4502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252360" y="907920"/>
            <a:ext cx="8640720" cy="5616720"/>
            <a:chOff x="252360" y="907920"/>
            <a:chExt cx="8640720" cy="5616720"/>
          </a:xfrm>
        </p:grpSpPr>
        <p:pic>
          <p:nvPicPr>
            <p:cNvPr id="59" name="Picture 10" descr=""/>
            <p:cNvPicPr/>
            <p:nvPr/>
          </p:nvPicPr>
          <p:blipFill>
            <a:blip r:embed="rId1"/>
            <a:stretch/>
          </p:blipFill>
          <p:spPr>
            <a:xfrm>
              <a:off x="252360" y="907920"/>
              <a:ext cx="864072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1"/>
            <p:cNvSpPr/>
            <p:nvPr/>
          </p:nvSpPr>
          <p:spPr>
            <a:xfrm>
              <a:off x="1835280" y="2060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3274920" y="364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4716360" y="3349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6156360" y="40705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7596360" y="29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250920" y="1001880"/>
            <a:ext cx="8642160" cy="5522760"/>
            <a:chOff x="250920" y="1001880"/>
            <a:chExt cx="8642160" cy="552276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1001880"/>
              <a:ext cx="8642160" cy="55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83528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3274920" y="299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716360" y="443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156360" y="19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2"/>
            <p:cNvSpPr/>
            <p:nvPr/>
          </p:nvSpPr>
          <p:spPr>
            <a:xfrm>
              <a:off x="759636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250920" y="981000"/>
            <a:ext cx="8642160" cy="5472360"/>
            <a:chOff x="250920" y="981000"/>
            <a:chExt cx="8642160" cy="5472360"/>
          </a:xfrm>
        </p:grpSpPr>
        <p:pic>
          <p:nvPicPr>
            <p:cNvPr id="75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864216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8"/>
            <p:cNvSpPr/>
            <p:nvPr/>
          </p:nvSpPr>
          <p:spPr>
            <a:xfrm>
              <a:off x="1835280" y="34225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20364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0"/>
            <p:cNvSpPr/>
            <p:nvPr/>
          </p:nvSpPr>
          <p:spPr>
            <a:xfrm>
              <a:off x="471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15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7596360" y="21258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21:50Z</dcterms:created>
  <dc:creator>MD</dc:creator>
  <dc:description/>
  <dc:language>en-US</dc:language>
  <cp:lastModifiedBy>ingegnere</cp:lastModifiedBy>
  <dcterms:modified xsi:type="dcterms:W3CDTF">2011-06-17T04:51:28Z</dcterms:modified>
  <cp:revision>16</cp:revision>
  <dc:subject/>
  <dc:title>Diapositiva 1</dc:title>
</cp:coreProperties>
</file>